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F89B-9546-4239-8214-D55FA941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A5D0-A54D-4127-B79A-73101D3C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827D-3F28-4210-AB1A-1E5FC745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7B72-35C0-4A2C-AB26-88034178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D60A-79D7-4725-BD25-2C978CB1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8E60-0497-4A1B-BF17-B1938D8E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8DD7-7B0D-4A29-8891-C92EB7B9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9D0C-30FF-486F-9DFB-C76A5D2A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ABDF-B3BD-49C9-B6A5-AB1A893D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5363-E114-4EE6-B422-728633B2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DB58-0744-4589-B07B-3F5A5341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CAC8-E5E0-43DB-8D37-D240F6F7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CF37-5A8E-47D7-83C6-ACB7C1C00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7IL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3-4 de abril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417680"/>
            <a:ext cx="87631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ropósito # 68: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sentación de Proye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ctivi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uring each presentation you are expected to take ACTIVE N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rite the name of the country being presented and also any facts that you found interesting in the present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member that you will be choosing a wi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f you are disruptive in any way, you will lose credit on your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4:25:32Z</dcterms:created>
  <dc:creator>Helen Zumaeta</dc:creator>
  <dc:description/>
  <dc:language>en-US</dc:language>
  <cp:lastModifiedBy>Helen Zumaeta</cp:lastModifiedBy>
  <dcterms:modified xsi:type="dcterms:W3CDTF">2013-04-02T16:27:37Z</dcterms:modified>
  <cp:revision>7</cp:revision>
  <dc:subject/>
  <dc:title>Me llamo ________ Clase 7IM La fecha es el 25 de enero del 2011</dc:title>
</cp:coreProperties>
</file>